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AE5-3485-4501-B56D-F93F9487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D9F-6003-48CB-8D03-82C28F6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CD6-6C14-44D6-A66C-69FC4036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231-8D30-4A13-BE9F-44CA96D6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D82-2C47-427B-B048-FAC6E1A0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912-C81B-4431-BA26-64BF1F2D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AA7-4D32-4C7D-B594-5BF9B4F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C7E-D709-4CBE-BC81-38616ACF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2EA-ED6F-4B5A-B59C-704EC41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B60-A3AD-4223-977D-37EF681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7A5-9BA4-4780-83B1-1D1B0360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06D-8974-4FE3-ACDF-7581B224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5248-ED31-4309-9E37-1C8FBA6A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avant-garde.com/ex/koons.shtml" TargetMode="External"/><Relationship Id="rId2" Type="http://schemas.openxmlformats.org/officeDocument/2006/relationships/hyperlink" Target="http://www.cavant-garde.com/ex/koons.shtml" TargetMode="External"/><Relationship Id="rId3" Type="http://schemas.openxmlformats.org/officeDocument/2006/relationships/hyperlink" Target="http://www.cavant-garde.com/ex/koons.shtml" TargetMode="External"/><Relationship Id="rId4" Type="http://schemas.openxmlformats.org/officeDocument/2006/relationships/hyperlink" Target="http://www.cavant-garde.com/ex/koons.shtml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fornian FB"/>
              </a:rPr>
              <a:t>Sculp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High 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81320" y="2084400"/>
            <a:ext cx="27813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ntrapp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38320" y="1719360"/>
            <a:ext cx="2676600" cy="428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38840" y="1600200"/>
            <a:ext cx="1657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ntrappos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05040" y="1600200"/>
            <a:ext cx="193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Public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6120" y="2185920"/>
            <a:ext cx="5171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Public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0" y="2276640"/>
            <a:ext cx="33336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arth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2087640"/>
            <a:ext cx="3619800" cy="258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9876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fornian FB"/>
              </a:rPr>
              <a:t>Art I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Louise Bourgeois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Maman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, 1999, Insta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43200" y="1614600"/>
            <a:ext cx="54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Modeling</a:t>
            </a: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62440" y="1600200"/>
            <a:ext cx="321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Colossal Head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Olmec, Ancient Art, 1500-300B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6305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fornian FB"/>
                <a:hlinkClick r:id="rId1"/>
              </a:rPr>
              <a:t>Koons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fornian FB"/>
                <a:hlinkClick r:id="rId2"/>
              </a:rPr>
              <a:t>,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fornian FB"/>
                <a:hlinkClick r:id="rId3"/>
              </a:rPr>
              <a:t>Puppy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fornian FB"/>
                <a:hlinkClick r:id="rId4"/>
              </a:rPr>
              <a:t>, Installation,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421000" y="1600200"/>
            <a:ext cx="390348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Various Sculp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536920" cy="3043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38640" y="1600200"/>
            <a:ext cx="305748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979880" y="3938760"/>
            <a:ext cx="3375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43160" y="2133720"/>
            <a:ext cx="28576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ar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384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ssemb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52360" y="2260440"/>
            <a:ext cx="2648160" cy="320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57640" y="171936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Lost Wax Techniqu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fornian FB"/>
              </a:rPr>
              <a:t>Circe perd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40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fornian FB"/>
              </a:rPr>
              <a:t>Secon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798560"/>
            <a:ext cx="6858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Low 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22096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21:29:25Z</dcterms:created>
  <dc:creator>Sheila Levi-Aland</dc:creator>
  <dc:description/>
  <dc:language>en-US</dc:language>
  <cp:lastModifiedBy>Sheila</cp:lastModifiedBy>
  <dcterms:modified xsi:type="dcterms:W3CDTF">2005-05-25T19:10:43Z</dcterms:modified>
  <cp:revision>23</cp:revision>
  <dc:subject/>
  <dc:title>Slide 1</dc:title>
</cp:coreProperties>
</file>